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AF5-53E8-4178-AF79-6FD54095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C18-8852-4C93-A8D2-6355F856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A6C2-6855-4355-A3F1-44A7C33E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7ACC-6647-4008-8BE6-C6A6E5ED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C014-EB72-44A2-BA21-A0C14CC3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480-F7F2-4657-A25E-AA90EC26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CE68-0D05-4E14-B0A5-2B981FA0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6FF5-3F7E-4490-B685-E26A6161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0E26-757C-4123-8B43-64EF542C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07FA-ECD5-4FE7-A99C-918B7A70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FC3E-765A-4B1B-A9A4-55099645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966-39BF-4983-A7B5-B1F5C28C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2B62-B66D-4E0B-B38B-E6CCBC89C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ng Words to Ma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divided by the sum of x and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y divided by two times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added to the product of 7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lve less than a number is thi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times a number increased by 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subtracted from twice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more than half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een less than the product of 8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a’s brother is 14 years younger than Andrea.  Write an expression for the age of Andrea’s br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fference of eighty-one and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HESE (the language of mat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ll the terms that imply these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   Subtraction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tion  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809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20574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ce the sum of five and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le the sum of five and a numb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een less than eight times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variable expression for “15 divided by the sum of x and 4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variable expression for “15 multiplied by the sum of x and 4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variable expression for “30 divided by the difference of t and 8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own expression in words and then in mathematical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8840" y="51811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g. 35:  1-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ng word probl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What operation does the word difference indica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translate the verbal phrase, "the difference of 7 and a number n" into an algebraic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s order important in the expression in Exercise 2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 Describe how to use a verbal model to solve a probl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as an algebraic expr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 Eleven decreased by the quantity four times a number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 Four increased by the quantity eleven times a number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 four times the quantity of a number x minus ele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 four times a number x decreased by ele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 a number x increased by ten is 2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 The product of seven and a number y is 4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 Twenty divided by a number n is less than or equal to tw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 Ten more than a number x is greater than fourt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  Nine more than a num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  one-half multiplied by a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  Three more than half of a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  a number increased by se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.  quotient of a number and two te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.  product of four and a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.  two cubed divided by a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.  difference of ten and a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.  five squared minus a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.  twenty-nine decreased by a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81480" y="518112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g. 35:  23-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ng word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ne is greater than three times a number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ve is the quotient of a number y and 3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duct of 14 and a number x is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ne less than the product of ten and a number d is el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times the quantity two less than a number x is 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decreased by eight is four times 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three less than the difference of thirty-eight and a number n is less than 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mber t increased by the sum of seven and the square of another number s is 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less than the difference of twenty and a number x is greater than or equal to 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een plus the product of twelve and a number is less than or equal to fif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81480" y="518112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g. 35:  23-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ng word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ne plus the quotient of a number b and ten is greater than or equal to ele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y divided by the product of seven and a number p is equal to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mber q is equal to or greater than one hund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mber x squared plus forty-four is equal to the number x to the fourth power times th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otient of thirty-five and a number t is less than or equal to se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y multiplied by the quantity twenty divided by a number n is greater than or equal to two hundred fif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re a dif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eight more than si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six more than 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our less than f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versu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five less than f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duct of two and f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versus      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product of four and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quotient of six and th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versus   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quotient of three and 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fteen divided by th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versus   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    three divided by fif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ng word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hourly wage b at his after school job is $1.50 less than Eileen’s hourly wage 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stance s to school is 1/5 mile more than the distance c to the Community Center swimming p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ngth c of the Colorado River is three times the length r of the Connecticut River, plus 229 m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the quotient of the circumference C and the diameter d of a 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olume V of a cube with a side length s is less than or equal to thirty minus th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duct of $25 and the number m of club memberships is greater than or equal to $5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imeter P of a square is equal to four times the difference of a number s and tw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mple interest earned on a principal of three hundred dollars at an annual interest rate of x percent is less than or equal to seventy-two doll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ea A of a trapezoid is equal to one half times the sum of seven and nine, times a number h plus se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quare of the length c of the hypotenuse of a right triangle is equal to four squared plus three squ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a Verb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 what you need to know to solve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labels to each part of the verbal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labels to write an algebraic model based on the verbal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algebraic model and answer the original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at your answer is reason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sing a Verb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rific math club is selling Pi Day shirts at $15 each.  The club wants to raise $300 for a math field t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more th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en less than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less than six times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remy’s sister is 6 years older than Jeremy.  Write an expression for the age of Jeremy’s s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03:26:34Z</dcterms:created>
  <dc:creator>HP_Administrator</dc:creator>
  <dc:description/>
  <dc:language>en-US</dc:language>
  <cp:lastModifiedBy>Connie Dolezal</cp:lastModifiedBy>
  <dcterms:modified xsi:type="dcterms:W3CDTF">2008-08-10T21:13:11Z</dcterms:modified>
  <cp:revision>10</cp:revision>
  <dc:subject/>
  <dc:title>Translating Words to Mathese</dc:title>
</cp:coreProperties>
</file>